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2.wmf" ContentType="image/x-wmf"/>
  <Override PartName="/ppt/media/image8.png" ContentType="image/png"/>
  <Override PartName="/ppt/media/carbrake.wav" ContentType="audio/x-wav"/>
  <Override PartName="/ppt/media/image16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D6F5-5096-4A7E-8E1B-2BAE3338F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6782-CB72-4133-A7A8-423CF4A24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There are as many different styles and forms of debates as there are debta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798D-4034-4433-B81A-3FFAE4A15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be the most effective, you need to make strong, solid points about your topic, but you also need to take apart your opponents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CD70-0FEE-485A-B526-32E3F220C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a strategy worked out for your side ahead of time will definitely help you win your debate by being unified and prepared enough to stay col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3BAD-3673-4008-91F1-E343DEE55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4CAA-B9F5-4D3C-8AB0-BC10DCF9B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404B-01D8-4CA0-B5A8-735706CF4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B9CB-0982-47BF-A39C-04669C9A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Getting angry, flustered, nervous, upset, or breaking down in any way WILL affect how others see you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Always remember that people rarely decide what side of a formal debate they will argue, so they may not be defending their own views: do not attack your opponent, attack their argument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E8CE-0A0D-4720-89E6-CBECA8749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speak clearly: the general rule for public speaking is to speak half as fast and twice as loud as you usually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0A5-AB5B-4E6D-A1C8-89D460646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C031-3869-4CA1-BDBD-23A98BF81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are presenting an informed position, being proven wrong is damaging and embarrassing, things everyone wants to a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n exciting speaker, be animated, monotone or dry speaking will bore your audience, not win them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ating is equal parts Substance and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5351-C1EA-41C9-AF95-316890C33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do not insult or offend with your anecdotes / jokes, they can be very powerful tools when used prop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0D0E-01D4-4C73-9696-480AC2C7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E2DC-E430-4578-91F6-18FFE706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ing and being ready for time constraints will make you appear better organized for your debate, it will also make you less nervous about speaking public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DCE-4279-4CE6-B6F5-BAA0814D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252-BDEC-427B-A933-1435DFBF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A15-839C-495D-99FA-1A4BBDB0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E6C-1EE2-40C0-A3EA-8EE1CD46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69B-DCAB-475C-8ECF-6BD7F967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409-4582-4AF9-95E6-D9BE74B5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632-EB24-482C-B10F-DAC1D069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876-EC69-4B4D-9050-269362A0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0A4-6792-42B0-A94D-FD6807EB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3CB-9F42-4B81-B760-C20B1D46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3A2-DAF7-49E7-96D1-278F10A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0B6-9717-4CDB-A536-6C5DCF51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917-FDCD-4E88-A7CD-1E84F13D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3165-DF91-4FBF-ABFF-76D39BB45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bating Tips and Strate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3" descr=""/>
          <p:cNvPicPr/>
          <p:nvPr/>
        </p:nvPicPr>
        <p:blipFill>
          <a:blip r:embed="rId1"/>
          <a:stretch/>
        </p:blipFill>
        <p:spPr>
          <a:xfrm>
            <a:off x="68580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ways to structure a de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lso different strategies for participating in debates, today, we will look at some of thes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457200" y="22860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member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09680" y="2438280"/>
            <a:ext cx="60199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rgument that you do not address in a rebuttal will be left in the memory of others as your opponents stated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wise, any rebuttal from your opponents that you do not address will also be left in the minds of your audience / ju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Object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139536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2000" cy="392724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515120" cy="3927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what your partner(s) plan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alone and risk being redundant, make the most of your team’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276720" y="380880"/>
            <a:ext cx="533376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O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recycle information in your closing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e closing speaker(s) should sum up all </a:t>
            </a: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relevant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arguments and rebuttals </a:t>
            </a: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without 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introducing any new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6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GS.AVI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572000" y="0"/>
            <a:ext cx="41911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ollow these tips and suggestions, and everything will come together for a successful debate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3333cc"/>
                </a:solidFill>
                <a:latin typeface="Times New Roman"/>
              </a:rPr>
              <a:t>THE END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Deb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3" descr=""/>
          <p:cNvPicPr/>
          <p:nvPr/>
        </p:nvPicPr>
        <p:blipFill>
          <a:blip r:embed="rId1"/>
          <a:stretch/>
        </p:blipFill>
        <p:spPr>
          <a:xfrm>
            <a:off x="906480" y="1981080"/>
            <a:ext cx="336852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t your emotions get the better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calm and speak in a clear, rational v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baters do not always choose what side they’re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525780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on't 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914400" y="3808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762120" y="457200"/>
            <a:ext cx="76197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mportant: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143000" y="2819520"/>
            <a:ext cx="6629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peaker in a debate must make sure that the resolution being debated is clearly stated and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de track your opponents with irrelevant points, stay on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3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2712960" cy="5749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8600" y="380880"/>
            <a:ext cx="48006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ack your op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 to your planned, researched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 cards can help a debater to stay focused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from them, use them as a gu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to the audience or mod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" descr=""/>
          <p:cNvPicPr/>
          <p:nvPr/>
        </p:nvPicPr>
        <p:blipFill>
          <a:blip r:embed="rId2"/>
          <a:stretch/>
        </p:blipFill>
        <p:spPr>
          <a:xfrm>
            <a:off x="6227640" y="3276720"/>
            <a:ext cx="291636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48120" y="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19520" y="4572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roughly research your topic and position, the best start to squashing a rebuttal is a well researched, well designed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57200" y="3352680"/>
            <a:ext cx="5257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ply state fa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ath to being a dull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tating sources or not backing up statements can lead to heavy rebuttal from your op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3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092400" cy="3282840"/>
          </a:xfrm>
          <a:prstGeom prst="rect">
            <a:avLst/>
          </a:prstGeom>
          <a:ln w="0">
            <a:noFill/>
          </a:ln>
        </p:spPr>
      </p:pic>
      <p:pic>
        <p:nvPicPr>
          <p:cNvPr id="66" name="Object 4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3132360" cy="3698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2120" y="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humor and / or anecdotes in your speak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examples helps illustrate your position, and uses an argumen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es or jokes that 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ppropr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very invol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IMPORTA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lock.avi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828800" y="46483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IME IS A VERY IMPORTANT FACTOR IN A DEBATE………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Object 3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Object 4" descr=""/>
          <p:cNvPicPr/>
          <p:nvPr/>
        </p:nvPicPr>
        <p:blipFill>
          <a:blip r:embed="rId3"/>
          <a:stretch/>
        </p:blipFill>
        <p:spPr>
          <a:xfrm>
            <a:off x="0" y="3048120"/>
            <a:ext cx="289548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Object 5" descr=""/>
          <p:cNvPicPr/>
          <p:nvPr/>
        </p:nvPicPr>
        <p:blipFill>
          <a:blip r:embed="rId4"/>
          <a:stretch/>
        </p:blipFill>
        <p:spPr>
          <a:xfrm>
            <a:off x="7696080" y="2930400"/>
            <a:ext cx="1447920" cy="3927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200400" y="2286000"/>
            <a:ext cx="3962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ware of time constraints, if there are 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 initial speech so you will be “on top” of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what it feels like to speak for the allotted length of time, speaking too much or not enough weakens your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74320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133720" y="3962520"/>
            <a:ext cx="4495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appropriate language or ges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ll ignore your information if not presented in an appropriate ma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71800" y="0"/>
            <a:ext cx="5791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y to “juggle” too many points at once. State your ideas in a logical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 speaking, the less nervous you will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7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14:43:58Z</dcterms:created>
  <dc:creator>Student</dc:creator>
  <dc:description/>
  <dc:language>en-US</dc:language>
  <cp:lastModifiedBy>Kirby Vincent</cp:lastModifiedBy>
  <cp:lastPrinted>2001-02-28T17:49:37Z</cp:lastPrinted>
  <dcterms:modified xsi:type="dcterms:W3CDTF">2012-04-02T09:10:52Z</dcterms:modified>
  <cp:revision>5</cp:revision>
  <dc:subject/>
  <dc:title>Debating Tips and Strategies</dc:title>
</cp:coreProperties>
</file>