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2.wmf" ContentType="image/x-wmf"/>
  <Override PartName="/ppt/media/image8.png" ContentType="image/png"/>
  <Override PartName="/ppt/media/carbrake.wav" ContentType="audio/x-wav"/>
  <Override PartName="/ppt/media/image16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B512-BE6C-4CF5-9D08-5939266B5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4C34-3DF8-475E-906B-F8BD74AAB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There are as many different styles and forms of debates as there are debta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F21F-EBB9-40F8-B7ED-A9038BD24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be the most effective, you need to make strong, solid points about your topic, but you also need to take apart your opponents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86E4-5338-459B-935B-5BC8733C4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a strategy worked out for your side ahead of time will definitely help you win your debate by being unified and prepared enough to stay col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C699-6486-40AB-BB52-CE74625E8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ABD5-E91B-44A0-87A8-31F408D1D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E151-7A5D-4CEC-A51E-49E2137D7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DDCB-9C9E-4CFA-A136-1C01B2BD3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Getting angry, flustered, nervous, upset, or breaking down in any way WILL affect how others see your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Always remember that people rarely decide what side of a formal debate they will argue, so they may not be defending their own views: do not attack your opponent, attack their argument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24E3-5E88-4678-B77D-5AF825A67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 speak clearly: the general rule for public speaking is to speak half as fast and twice as loud as you usually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2DD1-A23B-463C-9D98-5A8DF7814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C062-BBD2-41FD-B82D-94F8EE4E9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 are presenting an informed position, being proven wrong is damaging and embarrassing, things everyone wants to av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n exciting speaker, be animated, monotone or dry speaking will bore your audience, not win them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ating is equal parts Substance and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8DDB-E7B7-4162-B6F3-7B9CC9A05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 do not insult or offend with your anecdotes / jokes, they can be very powerful tools when used prop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6FD4-943E-476C-B166-FABF1580F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8B77-59E1-4137-9DF8-817E4B067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ing and being ready for time constraints will make you appear better organized for your debate, it will also make you less nervous about speaking public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0701-E2F9-41DF-ABD0-90B8FA3A5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66D-2269-49AD-8B56-6FFAC9B1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BBB-747F-4481-B124-EBD89FF9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0947-3021-4C90-B0B0-3CB410FA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378-CC0E-427B-BF9A-DDCA13AA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D10-B780-4224-BC05-8B1101A5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63BB-B7AD-4C05-91EE-6CC82CEC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1DB-20B2-4624-B20B-3516CC6F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97A-A1CD-4405-81B2-313FBBCD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234-2618-4870-A75C-63F8F8BB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B16-6DDF-42BA-8BDD-E832202F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9CA-8E61-47DD-AA15-03897297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EB2-C15E-4212-8252-01C78F6D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2F34-EF99-4191-89A8-E2B1085EC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ebating Tips and Strate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ct 3" descr=""/>
          <p:cNvPicPr/>
          <p:nvPr/>
        </p:nvPicPr>
        <p:blipFill>
          <a:blip r:embed="rId1"/>
          <a:stretch/>
        </p:blipFill>
        <p:spPr>
          <a:xfrm>
            <a:off x="685800" y="2128680"/>
            <a:ext cx="3809880" cy="3818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any ways to structure a deb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lso different strategies for participating in debates, today, we will look at some of these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457200" y="228600"/>
            <a:ext cx="8305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emember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09680" y="2438280"/>
            <a:ext cx="60199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argument that you do not address in a rebuttal will be left in the memory of others as your opponents stated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wise, any rebuttal from your opponents that you do not address will also be left in the minds of your audience / ju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Object 4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139536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42000" cy="392724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515120" cy="3927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ware of what your partner(s) plans 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0" y="579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alone and risk being redundant, make the most of your team’s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276720" y="380880"/>
            <a:ext cx="5333760" cy="62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DO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recycle information in your closing speec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TI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The closing speaker(s) should sum up all </a:t>
            </a:r>
            <a:r>
              <a:rPr b="1" lang="en-US" sz="4000" spc="-1" strike="noStrike" u="sng">
                <a:solidFill>
                  <a:srgbClr val="008000"/>
                </a:solidFill>
                <a:uFillTx/>
                <a:latin typeface="Times New Roman"/>
              </a:rPr>
              <a:t>relevant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arguments and rebuttals </a:t>
            </a:r>
            <a:r>
              <a:rPr b="1" lang="en-US" sz="4000" spc="-1" strike="noStrike" u="sng">
                <a:solidFill>
                  <a:srgbClr val="008000"/>
                </a:solidFill>
                <a:uFillTx/>
                <a:latin typeface="Times New Roman"/>
              </a:rPr>
              <a:t>without 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introducing any new inform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6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GS.AVI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553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4572000" y="0"/>
            <a:ext cx="41911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Follow these tips and suggestions, and everything will come together for a successful debate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3333cc"/>
                </a:solidFill>
                <a:latin typeface="Times New Roman"/>
              </a:rPr>
              <a:t>THE END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Deb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Object 3" descr=""/>
          <p:cNvPicPr/>
          <p:nvPr/>
        </p:nvPicPr>
        <p:blipFill>
          <a:blip r:embed="rId1"/>
          <a:stretch/>
        </p:blipFill>
        <p:spPr>
          <a:xfrm>
            <a:off x="906480" y="1981080"/>
            <a:ext cx="336852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t your emotions get the better of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y calm and speak in a clear, rational v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baters do not always choose what side they’re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5257800" y="30492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on't '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914400" y="3808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o'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ver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762120" y="457200"/>
            <a:ext cx="76197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mportant: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143000" y="2819520"/>
            <a:ext cx="6629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speaker in a debate must make sure that the resolution being debated is clearly stated and 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de track your opponents with irrelevant points, stay on to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3" descr=""/>
          <p:cNvPicPr/>
          <p:nvPr/>
        </p:nvPicPr>
        <p:blipFill>
          <a:blip r:embed="rId1"/>
          <a:stretch/>
        </p:blipFill>
        <p:spPr>
          <a:xfrm>
            <a:off x="5486400" y="380880"/>
            <a:ext cx="2712960" cy="5749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228600" y="380880"/>
            <a:ext cx="48006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ack your op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ck to your planned, researched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P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e cards can help a debater to stay focused, b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from them, use them as a gu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 to the audience or mod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409840" cy="2562120"/>
          </a:xfrm>
          <a:prstGeom prst="rect">
            <a:avLst/>
          </a:prstGeom>
          <a:ln w="0">
            <a:noFill/>
          </a:ln>
        </p:spPr>
      </p:pic>
      <p:pic>
        <p:nvPicPr>
          <p:cNvPr id="61" name="Object 3" descr=""/>
          <p:cNvPicPr/>
          <p:nvPr/>
        </p:nvPicPr>
        <p:blipFill>
          <a:blip r:embed="rId2"/>
          <a:stretch/>
        </p:blipFill>
        <p:spPr>
          <a:xfrm>
            <a:off x="6227640" y="3276720"/>
            <a:ext cx="291636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048120" y="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819520" y="45720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oroughly research your topic and position, the best start to squashing a rebuttal is a well researched, well designed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57200" y="3352680"/>
            <a:ext cx="5257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ply state fa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path to being a dull sp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stating sources or not backing up statements can lead to heavy rebuttal from your op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3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3092400" cy="3282840"/>
          </a:xfrm>
          <a:prstGeom prst="rect">
            <a:avLst/>
          </a:prstGeom>
          <a:ln w="0">
            <a:noFill/>
          </a:ln>
        </p:spPr>
      </p:pic>
      <p:pic>
        <p:nvPicPr>
          <p:cNvPr id="66" name="Object 4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3132360" cy="3698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2120" y="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humor and / or anecdotes in your speak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examples helps illustrate your position, and uses an argumen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ies or jokes that ar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ppropri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very invol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IMPORTA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lock.avi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828800" y="46483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IME IS A VERY IMPORTANT FACTOR IN A DEBATE…………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Object 3" descr="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057400"/>
          </a:xfrm>
          <a:prstGeom prst="rect">
            <a:avLst/>
          </a:prstGeom>
          <a:ln w="0">
            <a:noFill/>
          </a:ln>
        </p:spPr>
      </p:pic>
      <p:pic>
        <p:nvPicPr>
          <p:cNvPr id="73" name="Object 4" descr=""/>
          <p:cNvPicPr/>
          <p:nvPr/>
        </p:nvPicPr>
        <p:blipFill>
          <a:blip r:embed="rId3"/>
          <a:stretch/>
        </p:blipFill>
        <p:spPr>
          <a:xfrm>
            <a:off x="0" y="3048120"/>
            <a:ext cx="2895480" cy="3809880"/>
          </a:xfrm>
          <a:prstGeom prst="rect">
            <a:avLst/>
          </a:prstGeom>
          <a:ln w="0">
            <a:noFill/>
          </a:ln>
        </p:spPr>
      </p:pic>
      <p:pic>
        <p:nvPicPr>
          <p:cNvPr id="74" name="Object 5" descr=""/>
          <p:cNvPicPr/>
          <p:nvPr/>
        </p:nvPicPr>
        <p:blipFill>
          <a:blip r:embed="rId4"/>
          <a:stretch/>
        </p:blipFill>
        <p:spPr>
          <a:xfrm>
            <a:off x="7696080" y="2930400"/>
            <a:ext cx="1447920" cy="3927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200400" y="2286000"/>
            <a:ext cx="39625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ware of time constraints, if there are 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 initial speech so you will be “on top” of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what it feels like to speak for the allotted length of time, speaking too much or not enough weakens your 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2743200" cy="4876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133720" y="3962520"/>
            <a:ext cx="4495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appropriate language or ges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ill ignore your information if not presented in an appropriate man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971800" y="0"/>
            <a:ext cx="5791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y to “juggle” too many points at once. State your ideas in a logical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o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 speaking, the less nervous you will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bject 7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392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8T14:43:58Z</dcterms:created>
  <dc:creator>Student</dc:creator>
  <dc:description/>
  <dc:language>en-US</dc:language>
  <cp:lastModifiedBy>Kirby Vincent</cp:lastModifiedBy>
  <cp:lastPrinted>2001-02-28T17:49:37Z</cp:lastPrinted>
  <dcterms:modified xsi:type="dcterms:W3CDTF">2012-04-02T09:10:52Z</dcterms:modified>
  <cp:revision>5</cp:revision>
  <dc:subject/>
  <dc:title>Debating Tips and Strategies</dc:title>
</cp:coreProperties>
</file>