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AF1-F7AD-4170-B957-5D65175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5E2-EF76-47A1-B289-588F0B8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410-53CB-4F63-9176-07D87DBD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FB3-BA17-4B5E-8110-B9EF72A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746-F95D-4BD3-931A-A82B943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6CE-9A4F-4F59-9BCF-2BCD88B5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84E-C9AB-4088-8B6B-F6BCB678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D08-2326-4A59-B25D-CA16A7F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541-D793-488F-BB63-3948A62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DC06-4D4F-4A1D-A73F-72EB414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ACA-398F-470D-AEAE-FB48E9F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916-7082-4DAE-B65F-3C18815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27E-ACF5-4242-AE6B-48ADCF2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B2C0-EFF9-472C-81D3-99745BE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31D-8431-4874-8B56-8854550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C1C-5E9E-4BC5-A862-9608DD44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A7F-A57E-4FC6-83E5-1A286867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3973-D1C7-4EC1-9E0E-1B913011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2AE6-BB09-4AA4-BB82-28501127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85DF-41E6-47B9-B9E8-2ED6A78D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D241-5C2A-4A94-A2B6-E1C2CC69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758C-F21C-400D-A20D-047615A5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CB2-590D-4764-96DE-94C619D3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E39E-6D1A-4B29-91A3-A515D7F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96CC-188D-41F6-8600-18ADB72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B3F8-6477-4A61-BB94-8ED7650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E515-684D-4197-83C8-D625F14A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96DD-DFFA-4AEB-BD5F-A564C82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4C6A-F055-4462-886B-50758878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A495-0AC7-49EE-9191-35171528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A8D5-E592-42F8-BFD9-89BFFD1B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063D-9443-46A3-B2CC-66AE4DE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D851-2E4E-44CF-B6CD-90A4C111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75A-A64E-484C-B9EE-1B0BF96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EDC8-3FD1-48A6-9A62-7133E0F5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7A10-7FAC-44BA-9C1B-719E7383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76DF-A08B-4B25-8330-FB7AB202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2540-7C05-49AC-908F-83C54382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FF22-847C-4066-ACFB-093AA73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E232-175D-45EC-8C5E-8FFAE54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2494-C1E0-4BFA-944F-938B536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2399-4453-4362-91A5-EA969A56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C319-7D13-42C9-ADC9-F0BF8C16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0789-DDE3-4A31-A2DA-EB31E425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481-0546-4952-B6F8-7FDFB41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74EF-DC4C-4F63-81A3-E2A0FA6C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95F4-E571-4105-AFA1-59DCFEB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B478-078E-4F2F-B9B0-2095A813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2B1B-524F-4FC3-BE2F-BFF0B29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19A6-BD95-47C0-B841-70DEDB7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59EC-229F-4C5F-B333-1B46921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BB230-FAB0-415B-955D-6614BEE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5265-0E26-47CF-825E-8965893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F03A-71FD-4AAE-8264-D7CAB54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7B99-3AF6-44AE-AC6B-06856AF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AB1-61BA-4F55-95FF-07577AFE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267F-020A-4B0E-8887-6A503795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A0C7-A211-4EAE-9454-C50D72B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5B011-CDC3-4C58-81AC-CC8FF605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5408-8F5B-4A20-A009-C8AB9869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89A7-4E73-4CE0-A673-7DF0D90C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C64D-92DF-4B6F-950A-D4A6BAE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69CC-8595-40D7-8591-0EAA1468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AA32-D19E-4B76-A9D7-039ED8E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DE93-DA86-4283-904C-15DEC53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52C0-7F47-4DF6-855F-4C95C8D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408-003A-4F23-89D0-DB0C6A9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29A1-D671-4765-8AD0-02EA4F2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443B-9E05-4060-9681-0951F734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E6C0-242C-4007-B8BA-2308A6C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3265-87D8-4B59-AE8E-0DED911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BFB2-5313-44D0-BD75-AE42CB6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F239-2BD7-4210-AB35-CEC201B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EE73-F784-4297-BAE9-8CAA57F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C14D-38C9-48ED-AAD6-20F70F80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EDE9-9B26-475F-9361-E1FF67D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E631-AE47-4B85-AF32-C18EE05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6CE-F0AB-41DB-B997-C409BF9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8D54-4D39-41AB-850D-54D070F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E045-891E-44C7-ABD4-7C25D2B8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6122-123E-4B42-AF30-3F0D621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A2461-7152-4BDB-914A-C78AD410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F8FF-4917-4251-9D89-D0686DBB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BA7-F2CF-4646-9CE2-06BDF5E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152-B3E9-4A0A-955C-9D00AC3F553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9C2B-5AA3-4D67-B7DC-18693202236D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B3A-CB13-49F2-98B2-E4BBF26DE5D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75E-9546-4AB8-B68D-AE4358C8FF9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4C03-E564-496C-87F2-96E3942092BA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EAB-9CC3-4749-91F6-337AA789304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69A3-893C-40CB-82EE-62A2C2B2DE2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566640" y="51814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Obrázek 3" descr="hate_crimes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ZECH REPUBLIC -  § 196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violence against a group of inhabitants and against individuals on the basis of race, nationality, political conviction or relig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LAND – Finnish Criminal C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makes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committing a crime against a person, because of his national, racial, ethnical or equivalent group'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gravating circumstance in senten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ivil Rights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t  (1968):  "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force or by threat of force, injure, intimidate, or interfere with anyone who is engaged in six specified protected activities, by reason of their race, color, religion, or national origin."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rime Victim Survey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1999):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A hate crime is a criminal offense. In the United States, federal prosecution is possible for hate crimes committed on the basis of a person's race, religion, or nation origin when engaging in a federally protected activity."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20714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attend school without being the victim of violence, threats of harm, intimidation, or damage to your belongings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ourself and to be free from being harassed, discriminated against, or attacked for who we are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free from violence motivated by prejudice or hatred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as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 is attacked because of its membership in a certain social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ial group, religion, sexual orientation, disability, class, ethnicity, nationality, age, sex, gender identity, social status or political opinion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zis – Crystal night, Concentration camps – race, relig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. Bartholomew's Day massac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-klux k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Zástupný symbol pro obsah 3" descr="pikekkk.130183310_std.jpg"/>
          <p:cNvPicPr/>
          <p:nvPr/>
        </p:nvPicPr>
        <p:blipFill>
          <a:blip r:embed="rId2"/>
          <a:stretch/>
        </p:blipFill>
        <p:spPr>
          <a:xfrm>
            <a:off x="785880" y="1722600"/>
            <a:ext cx="5500800" cy="4689360"/>
          </a:xfrm>
          <a:prstGeom prst="rect">
            <a:avLst/>
          </a:prstGeom>
          <a:ln w="0">
            <a:noFill/>
          </a:ln>
        </p:spPr>
      </p:pic>
      <p:pic>
        <p:nvPicPr>
          <p:cNvPr id="312" name="Obrázek 4" descr="ku_klux_klan_md.jpg"/>
          <p:cNvPicPr/>
          <p:nvPr/>
        </p:nvPicPr>
        <p:blipFill>
          <a:blip r:embed="rId3"/>
          <a:stretch/>
        </p:blipFill>
        <p:spPr>
          <a:xfrm>
            <a:off x="6858000" y="45007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equent in the USA - anti-black b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8,2 % race related, 70% of them anti-black bi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frequent bias motivations: anti-white, anti-Jewish, anti-Islamic, anti-homosexual, and anti-Hispanic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onse to hate crimes based upon race ethnicity, religion, ..., through: education, outreach, community resources and criminal justice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of hate crimes targeted because of their identity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ttributes cannot be changed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feel degraded, frightened, vulnerable and suspiciou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ty members who share with victims may also feel vulnerable, fearful, and powerles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ift and strong law enforcement response can help stabilize and calm the community, while aiding the victim's recov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 personal crisi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e of community/system betrayal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reme fear of certain group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er/desire for reve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unity tension/fear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 of trust in criminal justice institution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blic damage, i.e. buildings such as churches/synagog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aws defining specific bias-motivated acts as distinct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criminal penalty-enhancement la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aws creating a distinct civil cause of action for hate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aws requiring administrative agencies to collect hate crime stat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14:11Z</dcterms:created>
  <dc:creator>vlastník</dc:creator>
  <dc:description/>
  <dc:language>en-US</dc:language>
  <cp:lastModifiedBy>vlastník</cp:lastModifiedBy>
  <dcterms:modified xsi:type="dcterms:W3CDTF">2012-03-18T18:34:22Z</dcterms:modified>
  <cp:revision>12</cp:revision>
  <dc:subject/>
  <dc:title>   Adéla Tukhi, Martina Baťková, Ivo Macháček</dc:title>
</cp:coreProperties>
</file>