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8D3-491D-4E84-B55A-A9AA40D7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192-535F-4B84-8358-E0FEF2A4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085-45B3-406A-8DF3-D3271B2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95C-A6D1-4543-9144-0D827A2F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514-A594-4E71-AC30-15314C29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290B-B840-48F2-B12C-8736DA1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B73F-AC40-49FD-A13A-FF93E32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263-C3BB-44D8-AE69-BBEDE7E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44D4-32F2-4B37-A069-690115A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E72-43A5-494A-9195-1AC0185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B826-93C1-4CA0-83C5-08A90DD0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EB1-309E-4F3C-B94A-0252A8DF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70B5-F31A-4966-8395-40CA0F3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268-3482-4077-98F9-B6865E2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6A1-2F87-44BA-9594-941D8232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B49-BA01-40B2-8EB3-5C43953D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91D-1A9C-4B3C-8E76-946FA1B2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F74D-8806-42D2-903E-D62ABA07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5A66-5E49-48CC-B91D-95E4D87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7F9E-1F63-4D3B-B245-11363C9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7EBD-AB48-4251-BF53-0A2C5A18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2DB2-9635-4AB8-AE19-9C74118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1E6-F23C-49A1-B07D-30FA2462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5DE1-EA36-4F9F-B6A6-B36C24DF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E0C7-4CFA-4613-8E64-B9D8FDC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393A-537C-4FC6-B7A4-1E8D7D4B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A8B8-8DE4-4722-84E9-08F808C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A68C-9593-46AE-9F77-BD89FAD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7D12-493E-4C66-B0B3-35D0D9DE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3F8D-ACAD-4730-AAC5-98823483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FD8F-54FE-484B-9BF6-B67E8834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21EA-DDB8-4DE4-A7B9-24C4521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14D9A-B106-43EE-870A-4750B677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9ED-B20C-4902-992F-CD04AD2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9AF6-CB74-4E28-B6C4-23D47333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8CD8-2D92-44D4-8CFB-104C5DB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5DBB-E3E6-48AF-ABF9-1092E2A1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465F-1B22-4899-8E40-5A50EDED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65CC-8269-4776-BDC3-0958037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0303-B879-4871-9BC2-82881BB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CD4A-E011-4A5F-A584-023E6BC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6D0A-CCE6-40DE-8E00-685E9E9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752A-A74E-4CC4-9FB3-8F012A8F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B228-7087-492E-B052-95687B13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C21-B60A-4E53-99A3-DC6FDA5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B029-A4F5-4E3C-9037-CF7F8C0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F361-001A-4517-98E8-69E46C0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536B-3E7E-43E1-9099-A36966C9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143D3-EBB1-40D3-ADF8-2FD4C1AA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C2DD-77F7-46C5-AD71-5B7050D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6D7B-5849-4A4E-8DA5-DA3E43C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078A-17D7-4A22-A0AC-47C1378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18C5-C40A-4954-9C9E-5AD4483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7EC60-F719-450F-8ADD-028CFE1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01F6-99CB-43C6-9D7C-8033C81D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48A-498C-425F-ACB7-9541C81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4EAA-C219-4E9D-A418-5A011442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4F99-40F8-4877-88B7-57041F63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54FE-8F21-4678-84AB-10888CD1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2D87-0DC4-48C5-9EF8-C1885F5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9A48-0304-4C0A-B52F-50A6C0F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B695-9517-4325-B041-32F6C77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9E46E-0CFA-43C9-85CF-FA22780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F99C-4F01-42AB-BC99-2292CA03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F403E-0F83-4F57-BEB4-AD941CE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EF8C-C801-4BA8-8061-2BF5C97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327-8C12-4F8D-B9C7-2266A90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DA6D-9187-42C3-BC51-08FC397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9ED8-08DE-4242-9823-BA6D1B43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50AB-C9E9-4AA5-B6CD-1B963434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99863-B880-4369-B0B1-5AD3FCB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5E5D5-1819-4348-BBA0-92F89EE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8D11-3534-419E-AFBC-89110B4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40D6-0E28-4E02-BEB6-E946B92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2FCDB-0505-4466-9970-BCA53090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206E-A68A-46F3-AB13-5CD51E4D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4677-B9F5-48D6-89E8-E1227BE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866-4B22-4D8D-9C67-954159E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4B3E-BFCD-41F3-A82E-648AC41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0721-F95B-4600-ACA7-577DA35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76BDD-F064-430A-8229-9475EEF4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F704-9D9B-461E-9FD0-CF8FC2C8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B2D6-1300-4A0B-BD02-34FB9D01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FC0-C321-4B3A-BD7D-8D86436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090-633B-4335-B83B-C19109C493A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491-C018-4487-8ED0-F751C9F05F55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4F25-07BC-4534-A47D-1678CC6463B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7E15-8871-4534-8E87-8AACCD3787BA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8D7-9686-48B1-A8EC-2CE2C282CB4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E3E-2C5C-4034-9DCB-1F1899B9661A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7AF-FE95-498E-9AF4-97C5DFD4B59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566640" y="51814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Obrázek 3" descr="hate_crimes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ZECH REPUBLIC -  § 196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violence against a group of inhabitants and against individuals on the basis of race, nationality, political conviction or relig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LAND – Finnish Criminal C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makes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committing a crime against a person, because of his national, racial, ethnical or equivalent group'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gravating circumstance in senten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ivil Rights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t  (1968):  "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force or by threat of force, injure, intimidate, or interfere with anyone who is engaged in six specified protected activities, by reason of their race, color, religion, or national origin."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rime Victim Survey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1999):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A hate crime is a criminal offense. In the United States, federal prosecution is possible for hate crimes committed on the basis of a person's race, religion, or nation origin when engaging in a federally protected activity."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20714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attend school without being the victim of violence, threats of harm, intimidation, or damage to your belongings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ourself and to be free from being harassed, discriminated against, or attacked for who we are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free from violence motivated by prejudice or hatred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as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 is attacked because of its membership in a certain social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ial group, religion, sexual orientation, disability, class, ethnicity, nationality, age, sex, gender identity, social status or political opinion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zis – Crystal night, Concentration camps – race, relig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. Bartholomew's Day massac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-klux k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Zástupný symbol pro obsah 3" descr="pikekkk.130183310_std.jpg"/>
          <p:cNvPicPr/>
          <p:nvPr/>
        </p:nvPicPr>
        <p:blipFill>
          <a:blip r:embed="rId2"/>
          <a:stretch/>
        </p:blipFill>
        <p:spPr>
          <a:xfrm>
            <a:off x="785880" y="1722600"/>
            <a:ext cx="5500800" cy="4689360"/>
          </a:xfrm>
          <a:prstGeom prst="rect">
            <a:avLst/>
          </a:prstGeom>
          <a:ln w="0">
            <a:noFill/>
          </a:ln>
        </p:spPr>
      </p:pic>
      <p:pic>
        <p:nvPicPr>
          <p:cNvPr id="312" name="Obrázek 4" descr="ku_klux_klan_md.jpg"/>
          <p:cNvPicPr/>
          <p:nvPr/>
        </p:nvPicPr>
        <p:blipFill>
          <a:blip r:embed="rId3"/>
          <a:stretch/>
        </p:blipFill>
        <p:spPr>
          <a:xfrm>
            <a:off x="6858000" y="45007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equent in the USA - anti-black b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8,2 % race related, 70% of them anti-black bi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frequent bias motivations: anti-white, anti-Jewish, anti-Islamic, anti-homosexual, and anti-Hispanic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onse to hate crimes based upon race ethnicity, religion, ..., through: education, outreach, community resources and criminal justice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of hate crimes targeted because of their identity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ttributes cannot be changed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feel degraded, frightened, vulnerable and suspiciou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ty members who share with victims may also feel vulnerable, fearful, and powerles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ift and strong law enforcement response can help stabilize and calm the community, while aiding the victim's recov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 personal crisi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e of community/system betrayal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reme fear of certain group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er/desire for reve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unity tension/fear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 of trust in criminal justice institution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blic damage, i.e. buildings such as churches/synagog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aws defining specific bias-motivated acts as distinct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criminal penalty-enhancement la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aws creating a distinct civil cause of action for hate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aws requiring administrative agencies to collect hate crime stat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14:11Z</dcterms:created>
  <dc:creator>vlastník</dc:creator>
  <dc:description/>
  <dc:language>en-US</dc:language>
  <cp:lastModifiedBy>vlastník</cp:lastModifiedBy>
  <dcterms:modified xsi:type="dcterms:W3CDTF">2012-03-18T18:34:22Z</dcterms:modified>
  <cp:revision>12</cp:revision>
  <dc:subject/>
  <dc:title>   Adéla Tukhi, Martina Baťková, Ivo Macháček</dc:title>
</cp:coreProperties>
</file>