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69C-2623-43A1-AFD1-CAF426F7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897-21D5-4969-A703-B10D18D2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03C8-F37B-47AF-A62E-874DF325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D833-3D5D-4BC4-AB7E-4790AF21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70D3-2F8B-476C-A38C-CC91C036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EA66-E435-4BCB-B19A-B69BBA2A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BD81-0349-476B-A485-2239096B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C3F6-0FAD-4C58-8882-28483A23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D89D-BC74-4888-88D4-250B7E93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767A-DCF3-4BCD-A175-A457AC51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4921-4C7A-4199-AE3A-171718DB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1DD3-B317-40A8-8ABA-56F6BBBE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8054-2E13-417D-9C7B-37B554C4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2370-2E66-4420-87B8-C1F0CB0A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1846-CB90-40AB-B2D4-5F8F92B6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964E-36D7-44AE-89F4-E2A8F4EB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357B-46D3-4C25-9911-3B7F2C90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C981F-0CB1-450B-9C5B-9E367B7A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235C2-82D8-485D-8DEE-FBD43F36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7FB82-FA9C-4052-81ED-3B74D645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3DE76-C87F-44FE-AE06-7065416B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4AB93-99B4-4EE2-A720-6AFC739D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3BF-DB05-4EF2-BA5E-5E62C1EF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DE2C2-5B28-440D-8C05-3F8AD23B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E6197-17EA-493E-A50C-F47FF376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29030-8617-4952-9415-E3C6CE81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4B83F-ADB6-4030-B562-CA0DF860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7E405-DC34-4CCB-AAD4-8B914C02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079AF-44CE-4320-A311-3752D793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63BF4-F89F-4875-BE18-2AD826B9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1847E-FA04-40DC-ADC8-67C91BD8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99C0C-8132-4E83-A948-C96D4ED5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AD2CE-2D74-4D44-8E3C-956F7B97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70A1-990F-4521-9C8A-A068CDFA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AD2D3-0DCE-4660-9F61-044C5033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CF357-0093-404F-9295-DBB49E81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FB7C7-6C47-4385-A509-E79B3C37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08FBE-4D11-4D74-A1C5-60FB7006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29AF0-C161-4DEB-9BB4-99858242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96050-D1E9-48F3-A124-5A5A9F33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DCA85-73A9-48B8-B053-B0A93B58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33F45-9CC6-41DD-B027-4AA91428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361D2-AFA3-4303-9BD7-E9165BF3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0D3FB-A080-41E3-9CA3-DE9D9F2E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B23-CA29-459F-8EAE-5856DB72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16282-3A16-469A-AEB9-2C654735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09506-CE38-404B-9A6B-95A8A3DB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3CEED-DF35-4D6F-92A9-D04A2986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62B0A-DBE2-4291-9634-E73E5253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8E267-C5D6-493A-844D-45FF9183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EE321-02FC-4B68-AF84-D6AC55E3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09E9B-3612-4680-9C7B-0EC8AE31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B40C7-7CDA-4A78-8FC8-F4B58016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83B56-46FB-48ED-A6B9-F3A50748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BAADF-B570-4441-83C2-4C9298BC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7BE-2129-48B2-8556-23ED1BDC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F9DE8-0833-4E74-A19C-96413614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BE06B-7647-459A-98BB-E90B6BCF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AE785-BD2B-4651-AAF7-A2B280E1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1B446-E990-4154-A50B-E8A4A7DF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950E9-E936-4502-B384-3A1CBB93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6BCB8-2E18-46D5-80C2-5263B4D2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BFE25-D470-4BAB-B944-2D6C70F1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8C4CE-1547-4BC1-9563-F11891D8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7F09F-C5CD-4214-B07F-D6097EF3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EED90-F07E-4C09-A940-35308A7D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2FC8-43C7-4707-BF28-21363554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E3E48-A9C4-4FF4-AE3F-5A0F3AE1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64CD6-B146-47A4-AE57-11B5814E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B22BD-0219-4B94-B74E-1B28B793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1DCFA-EBCC-4DE3-A43A-6796D16C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056CB-0E56-4DA9-ACEA-82B643B8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95887-B513-4F70-ADBE-3C76B4BA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02416-F2D3-42F7-96FB-D8A8B93D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F4DF6-6BA3-4864-A932-B253F8B6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6E177-7198-4247-A743-80BE9461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07EB9-D3F0-4961-8635-4C322091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BFE-3245-4E11-8CB4-5D82C077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0D0C9-FC87-4580-93A0-C4C98835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26BA8-E8D9-458C-BF63-99196817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9FC1A-ED1E-4526-9C61-5E5F16C8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2544F-ABD5-4BC2-981D-89BA489B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81EB6-9113-4A03-9696-2A41714D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914-22A3-4EA2-9DE7-1BC1FCB7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DD55-81F9-41A7-9E4A-49ADC8D985A3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72B7-8073-4738-A1E0-C3CC520BEAEB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BAF2-9C49-46D0-8318-A3D1FED629F0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41F5-A66C-4235-B388-9D4447249651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FD15-DDA1-4EA2-83E9-F79F6CC7669B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53C0-D180-4329-85E1-E366D5BA2D2D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923A-C3FB-4667-A626-C65AC0CB0C97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Nadpis 1" descr=""/>
          <p:cNvPicPr/>
          <p:nvPr/>
        </p:nvPicPr>
        <p:blipFill>
          <a:blip r:embed="rId1"/>
          <a:stretch/>
        </p:blipFill>
        <p:spPr>
          <a:xfrm>
            <a:off x="566640" y="5181480"/>
            <a:ext cx="8089920" cy="1683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Obrázek 3" descr="hate_crimes.jpg"/>
          <p:cNvPicPr/>
          <p:nvPr/>
        </p:nvPicPr>
        <p:blipFill>
          <a:blip r:embed="rId2"/>
          <a:stretch/>
        </p:blipFill>
        <p:spPr>
          <a:xfrm>
            <a:off x="357120" y="285840"/>
            <a:ext cx="842976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ZECH REPUBLIC -  § 196 :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'violence against a group of inhabitants and against individuals on the basis of race, nationality, political conviction or relig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LAND – Finnish Criminal Cod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makes 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'committing a crime against a person, because of his national, racial, ethnical or equivalent group'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 aggravating circumstance in sentenc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USA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ivil Rights </a:t>
            </a:r>
            <a:r>
              <a:rPr b="0" lang="cs-CZ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ct  (1968):  "</a:t>
            </a: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force or by threat of force, injure, intimidate, or interfere with anyone who is engaged in six specified protected activities, by reason of their race, color, religion, or national origin."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tional Crime Victim Survey</a:t>
            </a:r>
            <a:r>
              <a:rPr b="0" lang="cs-CZ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1999): </a:t>
            </a: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"A hate crime is a criminal offense. In the United States, federal prosecution is possible for hate crimes committed on the basis of a person's race, religion, or nation origin when engaging in a federally protected activity."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168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20714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right to attend school without being the victim of violence, threats of harm, intimidation, or damage to your belongings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right to be ourself and to be free from being harassed, discriminated against, or attacked for who we are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right to be free from violence motivated by prejudice or hatred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as motiv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ctim is attacked because of its membership in a certain social grou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cial group, religion, sexual orientation, disability, class, ethnicity, nationality, age, sex, gender identity, social status or political opinion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zis – Crystal night, Concentration camps – race, relig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. Bartholomew's Day massac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u-klux kla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1" name="Zástupný symbol pro obsah 3" descr="pikekkk.130183310_std.jpg"/>
          <p:cNvPicPr/>
          <p:nvPr/>
        </p:nvPicPr>
        <p:blipFill>
          <a:blip r:embed="rId2"/>
          <a:stretch/>
        </p:blipFill>
        <p:spPr>
          <a:xfrm>
            <a:off x="785880" y="1722600"/>
            <a:ext cx="5500800" cy="4689360"/>
          </a:xfrm>
          <a:prstGeom prst="rect">
            <a:avLst/>
          </a:prstGeom>
          <a:ln w="0">
            <a:noFill/>
          </a:ln>
        </p:spPr>
      </p:pic>
      <p:pic>
        <p:nvPicPr>
          <p:cNvPr id="312" name="Obrázek 4" descr="ku_klux_klan_md.jpg"/>
          <p:cNvPicPr/>
          <p:nvPr/>
        </p:nvPicPr>
        <p:blipFill>
          <a:blip r:embed="rId3"/>
          <a:stretch/>
        </p:blipFill>
        <p:spPr>
          <a:xfrm>
            <a:off x="6858000" y="450072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frequent in the USA - anti-black bi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48,2 % race related, 70% of them anti-black bias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frequent bias motivations: anti-white, anti-Jewish, anti-Islamic, anti-homosexual, and anti-Hispanic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sponse to hate crimes based upon race ethnicity, religion, ..., through: education, outreach, community resources and criminal justice syste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ctims of hate crimes targeted because of their identity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se attributes cannot be changed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ctims feel degraded, frightened, vulnerable and suspicious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unity members who share with victims may also feel vulnerable, fearful, and powerless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wift and strong law enforcement response can help stabilize and calm the community, while aiding the victim's recove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ep personal crisis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nse of community/system betrayal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treme fear of certain groups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er/desire for reven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munity tension/fear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oss of trust in criminal justice institutions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ublic damage, i.e. buildings such as churches/synagogu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laws defining specific bias-motivated acts as distinct crim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criminal penalty-enhancement la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laws creating a distinct civil cause of action for hate crim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 laws requiring administrative agencies to collect hate crime statistic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8:14:11Z</dcterms:created>
  <dc:creator>vlastník</dc:creator>
  <dc:description/>
  <dc:language>en-US</dc:language>
  <cp:lastModifiedBy>vlastník</cp:lastModifiedBy>
  <dcterms:modified xsi:type="dcterms:W3CDTF">2012-03-18T18:34:22Z</dcterms:modified>
  <cp:revision>12</cp:revision>
  <dc:subject/>
  <dc:title>   Adéla Tukhi, Martina Baťková, Ivo Macháček</dc:title>
</cp:coreProperties>
</file>